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D62-0F2D-4208-8DF1-AACA007B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0CA-4371-4B1C-8BFB-94462B2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94A-D617-4F21-961C-64F8C6D9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4C-2033-4C2F-8534-82D4D4C2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57F1-C2DB-4627-9A34-118D2AB7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FB2-333A-4A8E-BD39-88D8094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6F7F-9F1D-447A-B2FD-CD496C3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ECF-799D-4E55-B645-FE879A4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1470-9F0A-40D1-AD65-D384C431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445C-8EC9-4CB4-9BBC-F588DE67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A0F-E44A-42A6-9342-0EB5E45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CDB-AB25-4F62-BB9D-62126541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F0E-C4AB-4E6F-8EA8-F91AC60F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400-24A9-43CA-A0BE-6E02D01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7502-A548-4966-802D-DA4B3C9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203-7627-4407-80BD-8772FBE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AE1B-D2A8-4B65-A22F-0A4867F8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97B-D9E0-4701-8A9D-C943ABF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3DD-8B66-410F-840B-80FCCC58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296-B6BC-479C-AC9E-6050F411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36F-A282-4176-87BB-E66E664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5B0-56C3-4009-9E46-14FFD0D7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030-514A-41CD-8443-F518D11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FF9-59AA-4214-A773-2F37AE6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CB6-B3EF-4BBD-B0AC-7FC1025986F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EB66-32DE-4982-97A8-7642708016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F765-51C3-43A2-A8D1-C87B50CD2FB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831-4CB9-4E69-8146-F2D1037744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B37-64C3-4BDC-99EB-6D66C41ECB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2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Надежность и качество маш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D34-5120-45E0-B8BA-4D2B39704F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На этапах разработки, изготовления и эксплуатации изделий оценку уровня качества проводят в целя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прогнозируемого и планируемого уровня качества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технических требований к изделиям в НТ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я динамики изменени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циональной организации контроля качества и испытаний издели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84E-875E-47A0-82EA-21C2C99EC9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разработк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а оптимального варианта при создании нов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я пригодности образцов для серийного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40B6-106D-4BFC-9764-DF3438DD67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изготовления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тверждения целесообразности дальнейшего изготовления изделий по утвержденной технологической и конструкторской документации и поставки заказчик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я целесообразности внесения изменений в конструкции и технологический процесс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F74-F593-419F-BF99-A8AA4BB72C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эксплуатаци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режимов применения, технического обслуживания, транспортирования, хранения и ремонта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ления необходимости замены, переналадки и регулировки узлов, агрегатов и других составных частей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состава ЗИ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ботки рекомендаций по совершенствованию изделий или снятию их с произво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9CE7-F6A2-43D2-A828-B7F9AB098A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Выбор и определение показателей качества изделий проводится в такой последовательност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всесторонняя характеристика изделий как объекта оценки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 обоснование показателей качества для конкретного изделия на основании проведенного анализ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ачества изделий в соответствии с существующими принципами квалимет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C203-2386-49B6-8072-64BB9FFC02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8360" y="403560"/>
            <a:ext cx="833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равнения различных свойств изделий значения относительных показателей определяются в виде нормированных величин, которые получают как отношение отклонений параметров от средних (номинальных) значений к половине значения интервала допуска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268360" y="2565360"/>
                <a:ext cx="4569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6"/>
          <p:cNvSpPr/>
          <p:nvPr/>
        </p:nvSpPr>
        <p:spPr>
          <a:xfrm>
            <a:off x="1187280" y="4459320"/>
            <a:ext cx="720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х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енные значения параме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i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предельно допустимые значения контролируемых параметров, задаваемых в Н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0D4-7497-47BA-9E86-498DA44D6F7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араметров, на которые в НТД дается односторонний допуск (сопротивление изоляции, потребляемая мощность и т.д.), недостающие пределы определяются из следующих выраж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g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l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ние значения контролируемых параметр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утся равны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минальным значениям параметров или определяются по статистическим дан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8AE-FBCE-4F49-8191-164354D78A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5280" y="295200"/>
            <a:ext cx="85694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комплексные показатели качества изделий  определяются как средневзвешенные значения исходных единичных показателей, при этом значение комплексных показателей существенно зависит от выбранной функциональной зависимости между отдельными единичными показателями. При допущении о взаимонезависимости единичных показателе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2771640" y="2924280"/>
                <a:ext cx="3562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Rectangle 6"/>
          <p:cNvSpPr/>
          <p:nvPr/>
        </p:nvSpPr>
        <p:spPr>
          <a:xfrm>
            <a:off x="395280" y="5496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знаменател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число единичных показателей) введен для нормирования велич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ределах 0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3C1B-3D1E-4A57-9525-B9AB3BD882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95280" y="972000"/>
            <a:ext cx="819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качества может использоваться для оценки качества как отдельных, так и совокупности однотипных изделий. В последнем случае его значение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556000" y="2924280"/>
                <a:ext cx="36115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6"/>
          <p:cNvSpPr/>
          <p:nvPr/>
        </p:nvSpPr>
        <p:spPr>
          <a:xfrm>
            <a:off x="539640" y="5345640"/>
            <a:ext cx="81154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днотипных изделий, для которых определены комплексные показат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6B89-008E-4364-A843-742FA60C34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8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2.   Методы определения уровней качества. Оптимизация уровней качест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E6B7-5904-49D6-AF0C-9CD8EB5788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нятие качества. Классификация показател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ы определения уровней качества. Оптимизация уровн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B6E0-0A88-43C6-B356-E6CB005DF6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Методы оценки уровня качества изделий подразде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фференциаль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шанн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461E-5EE8-45B5-B89B-8CF425D584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степени соответствия уровня качества изделий требованиям конкретного потребителя, ТЗ, ТУ или стандарту целесообразно примен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ифференциаль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изделия на соответствие совокупности лучших изделий-аналогов для установления уровня качества или количественной оценки качества целесообразен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Смешан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 уровня качества изделий применяется тогда, когда наряду с комплексным показателем качества необходимо дополнительно учесть отдельные наиболее важные единичные показат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488-B685-4346-93EE-2E22DE7656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610920" y="189000"/>
            <a:ext cx="5832720" cy="6400800"/>
            <a:chOff x="610920" y="189000"/>
            <a:chExt cx="5832720" cy="6400800"/>
          </a:xfrm>
        </p:grpSpPr>
        <p:sp>
          <p:nvSpPr>
            <p:cNvPr id="170" name="Rectangle 5"/>
            <p:cNvSpPr/>
            <p:nvPr/>
          </p:nvSpPr>
          <p:spPr>
            <a:xfrm>
              <a:off x="1057320" y="1890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цели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1057320" y="7819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номенклатуры показателей оцениваемого изделия и их коэффициентов весо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1057320" y="13755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базовых показате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1057320" y="19684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етода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1057320" y="25621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одели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1057320" y="31554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относитель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1057320" y="37486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критериев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1057320" y="55285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и обоснование вариантов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057320" y="43419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ведение сопоставительного анализа результатов оценки по поставленной ц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1057320" y="493524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критериев оптима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1057320" y="61218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нятие решения по результатам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81040" y="41940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443640" y="419400"/>
              <a:ext cx="0" cy="47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5997240" y="51548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10920" y="3866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611280" y="386640"/>
              <a:ext cx="0" cy="35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611280" y="394632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611280" y="216648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>
              <a:off x="3287880" y="6832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4"/>
            <p:cNvSpPr/>
            <p:nvPr/>
          </p:nvSpPr>
          <p:spPr>
            <a:xfrm>
              <a:off x="3287880" y="12765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5"/>
            <p:cNvSpPr/>
            <p:nvPr/>
          </p:nvSpPr>
          <p:spPr>
            <a:xfrm>
              <a:off x="3287880" y="18698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6"/>
            <p:cNvSpPr/>
            <p:nvPr/>
          </p:nvSpPr>
          <p:spPr>
            <a:xfrm>
              <a:off x="3287880" y="24631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>
              <a:off x="3287880" y="30564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8"/>
            <p:cNvSpPr/>
            <p:nvPr/>
          </p:nvSpPr>
          <p:spPr>
            <a:xfrm>
              <a:off x="3287880" y="36496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>
              <a:off x="3287880" y="42429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3287880" y="48362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3287880" y="54295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3287880" y="60228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33"/>
          <p:cNvSpPr/>
          <p:nvPr/>
        </p:nvSpPr>
        <p:spPr>
          <a:xfrm>
            <a:off x="6227640" y="5300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орядок проведения комплексной оценки уровня качества издел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E34-E42C-4335-8F51-4D42A969DC7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За базовые показатели могут быть приняты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перспективных (планируемых) изделий с учетом прогнозируемого уровн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конкретных изделий, выбираемых из всей совокупности лучших образцов-аналогов отечественного и зарубежного производства, представляющих предельный уровень качества на данный пери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отечественного или зарубежного стандар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B305-A0E1-4F99-93DC-C334144F7F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требований потреб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й науки и техн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яющих возможность выполнения задаваемых показателей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показателей качества экспериментальн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0D1-1911-446E-9D03-08BC88EAA8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результатов прогноза научно-технического прогресса, условиями, определяющими возможность применения требований стандарта при выборе базовых показ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аличие технико-экономических обоснований возможности и необходимости получения заданных в стандарте значений показателей уровня ка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редставительность стандарта, т.е. наличие информации о том, что основная часть продукции выпускается по принятому стандар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131-7582-4857-88A0-27E4F275F9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Уровень базовых показателей качества изделий определяется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ш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н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ым технико-экономически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спективным народнохозяйственным или мировым уровнем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A26D-B813-4211-9239-1C40912173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Рекомендации по выбору базовых показателей и метода оценки в зависимости от цели оцен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12536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480" indent="21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выбора базового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9840"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варианта решения при проект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ния, в том числе госиспы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динамики изменени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выпуска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 образец, аналог, станд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, в том числе ТЗ, ТУ, 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, перспективный образ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 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925-1484-41F7-91B1-D5F4A9D7B6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1. Понятие качества. Классификация показателей качеств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3DA-1352-4A52-A2A8-A7C57EB848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Качество издел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это совокупность свойств, обуславливающих их пригодность удовлетворять определенные потре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енными характеристиками качества изделий являются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уровень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E10-7E66-48B2-B874-5D9923F31D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делий определяются той или иной совокупностью свойств: физических, геометрических, функциональных, а также технологическими признаками качества, например, отсутствием недопустимых дефектов типа нарушений сплошности, соответствием физико-химических свойств и структуры основного материала и покрытий требованиям НТД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94F9-8684-4026-8C9F-30E2126457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Классификация показателей качеств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знач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приспособленности к эксплуатации и сохранению работоспособ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деж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эргоном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удобства технического обслуживания, ремонта и хран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ранспортаб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безопас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рациональности технико-экономических ре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стандартизации и унифик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ехнолог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нструктивные показат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экономические показате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A309-161A-4B9D-ABD4-0F77EABA5B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Различают показатели качеств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инич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бще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гра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7C6-1FCF-453D-9ABF-7E27756C8D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Единич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ь качества изделия характеризует одно свойство изделия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несколько свой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обобщен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 понимается комплексный показатель  качества, относящийся к такой совокупности свойств изделия, по которой принято для данного изделия оценивать качест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лексный показатель качества, являющийся отношением суммарного полезного эффекта от эксплуатации изделия и суммарных затрат на его содержание или эксплуатацию, называетс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интеграль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D915-F3DA-4380-9EAA-14F8151232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заимосвязь показателей качеств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250920" y="692280"/>
            <a:ext cx="8569080" cy="5328720"/>
            <a:chOff x="250920" y="692280"/>
            <a:chExt cx="8569080" cy="5328720"/>
          </a:xfrm>
        </p:grpSpPr>
        <p:sp>
          <p:nvSpPr>
            <p:cNvPr id="108" name="Line 5"/>
            <p:cNvSpPr/>
            <p:nvPr/>
          </p:nvSpPr>
          <p:spPr>
            <a:xfrm flipH="1">
              <a:off x="250920" y="576756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944080" y="69228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казатели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588168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20932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61644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V="1">
              <a:off x="220932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5147280" y="1707120"/>
              <a:ext cx="29379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плекс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6823440" y="322992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тегр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412880" y="322992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общ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209320" y="3229920"/>
              <a:ext cx="19584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V="1">
              <a:off x="318852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V="1">
              <a:off x="56372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 flipV="1">
              <a:off x="78404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3188520" y="2722320"/>
              <a:ext cx="46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 flipV="1">
              <a:off x="6616440" y="22143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250920" y="1960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1"/>
            <p:cNvSpPr/>
            <p:nvPr/>
          </p:nvSpPr>
          <p:spPr>
            <a:xfrm flipV="1">
              <a:off x="250920" y="1960560"/>
              <a:ext cx="0" cy="38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2"/>
            <p:cNvSpPr/>
            <p:nvPr/>
          </p:nvSpPr>
          <p:spPr>
            <a:xfrm flipH="1">
              <a:off x="3188520" y="44989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V="1">
              <a:off x="3188520" y="373680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>
              <a:off x="4412880" y="4244760"/>
              <a:ext cx="220320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5"/>
            <p:cNvSpPr/>
            <p:nvPr/>
          </p:nvSpPr>
          <p:spPr>
            <a:xfrm>
              <a:off x="4413960" y="551376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702360" y="551376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740520" y="4244760"/>
              <a:ext cx="199656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792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H="1">
              <a:off x="250920" y="4498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740520" y="170712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дин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3188520" y="57675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Kafedra</cp:lastModifiedBy>
  <dcterms:modified xsi:type="dcterms:W3CDTF">2019-09-26T06:39:22Z</dcterms:modified>
  <cp:revision>9</cp:revision>
  <dc:subject/>
  <dc:title>Лекция  № 11 </dc:title>
</cp:coreProperties>
</file>